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2A7-B9BD-486E-BDE9-271E2060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000-E3F3-4C86-9028-C3B40A1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0A6-17B5-4AAA-BBE3-0A22184C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E1F-F013-4445-AE48-4ADABE12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AA8-B64A-492A-8242-07781B5D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046-3409-4D8D-B850-C4B992F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34C-D90A-4EBD-B4D9-E863088D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D7C-5F44-4268-BFBD-8E3A523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192-E3BC-4AB5-B856-8E5FF171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054-45A6-4BF5-BFD3-1A6CFA0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748-15B4-40D1-B67F-9BF2DAC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C06-38FB-4C96-98FE-D157B53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EB33-E0DA-4D97-B9F9-99C84A1F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1: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Presidenti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4: Public Opinion &amp;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hey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/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ribes, “G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itizen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son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erest Groups SINGL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Opinion 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nd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didates/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ed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atchdog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ation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or Re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bel, 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 1: Political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Two 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mocratic Repub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moc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exander Hami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hir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opulists, Progress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ow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Political Ide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ism------------------Conserva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emocrats------------------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sic fundamental differences of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olitical free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conomic free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ty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ome/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raight ticket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9250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Major U.S.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mocr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gger Government, More role in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gulating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vide for the less fortu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s gov’t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s Government, Les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litical Freedom, Economic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ndepe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pends, Moderate, Middle of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National Party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National Committ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National Party Chair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. National Conven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Every four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Write Platform with Plan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Nominate Party Presidential Candi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. State/Local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State committe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50 to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. Local Committe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Precinc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W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. Political Machi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Tammany H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. Role of Political Partie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losed &amp; Open Pri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ff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ition for Third Party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arty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ing For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ing 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Gov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lling Place; Prec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st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allo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bsentee Vo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mar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pecial/Issu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esidential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ion;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v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(soft $, PACs)  -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mpaig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ittering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ndw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ersonal Attacks/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st Plain Fo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29:17Z</dcterms:created>
  <dc:creator>Chatham County</dc:creator>
  <dc:description/>
  <dc:language>en-US</dc:language>
  <cp:lastModifiedBy>Chatham County</cp:lastModifiedBy>
  <dcterms:modified xsi:type="dcterms:W3CDTF">2010-10-05T16:57:12Z</dcterms:modified>
  <cp:revision>2</cp:revision>
  <dc:subject/>
  <dc:title>PowerPoint Presentation</dc:title>
</cp:coreProperties>
</file>